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B7FA-C36B-4596-AC3F-D91BD43B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2FE7-B93C-4B11-AEBC-700C77E8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A807-C833-4273-90C0-CE1D72B4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620E-291D-4459-A503-BAF91BBB6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EBFF-9C12-43F6-92BD-D8F0AFF1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0F28-EF27-40E4-831F-5F0BFFAC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5361-AA38-431B-AC67-654B583F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4805-DAE4-4FB0-86FF-04B0C432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62A1-ECB2-408E-B48E-E2888397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D7A1-96D8-475C-A910-0F0404CE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D399-BC68-4FF4-81ED-D95D6BC7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5B9F-9A4A-49C9-A6C9-6D3140A8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21CD-E597-4EDD-BC23-9FA832925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 now reca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3640" y="1125000"/>
            <a:ext cx="843588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a post it, jot down a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aluative comment about the creative skill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sed between this AS and A2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187280" y="2124000"/>
            <a:ext cx="3002040" cy="4511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5437080" y="2087640"/>
            <a:ext cx="318636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fessionalism on a budg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435880" cy="57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ow does your use of digital technology compare to production of real media tex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16-19 year olds you are not expected to be able to replicate what professional media institutions can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 rot="21115800">
            <a:off x="1077840" y="2808360"/>
            <a:ext cx="2538360" cy="3760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Mark's_Poster_(Final_Draft).jpg"/>
          <p:cNvPicPr/>
          <p:nvPr/>
        </p:nvPicPr>
        <p:blipFill>
          <a:blip r:embed="rId2"/>
          <a:stretch/>
        </p:blipFill>
        <p:spPr>
          <a:xfrm rot="958200">
            <a:off x="5101920" y="2955600"/>
            <a:ext cx="254160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ting Media cours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aluative comment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make about his use of digital technology across those 4 production ar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ember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reation of the produ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Exhib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Mark's_Magazine_(Final_Draft).jpg"/>
          <p:cNvPicPr/>
          <p:nvPr/>
        </p:nvPicPr>
        <p:blipFill>
          <a:blip r:embed="rId1"/>
          <a:stretch/>
        </p:blipFill>
        <p:spPr>
          <a:xfrm>
            <a:off x="4572000" y="2852640"/>
            <a:ext cx="2695680" cy="379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Mark's_Poster_(Final_Draft).jpg"/>
          <p:cNvPicPr/>
          <p:nvPr/>
        </p:nvPicPr>
        <p:blipFill>
          <a:blip r:embed="rId2"/>
          <a:stretch/>
        </p:blipFill>
        <p:spPr>
          <a:xfrm>
            <a:off x="250920" y="2997360"/>
            <a:ext cx="2541600" cy="3574800"/>
          </a:xfrm>
          <a:prstGeom prst="rect">
            <a:avLst/>
          </a:prstGeom>
          <a:ln w="0">
            <a:noFill/>
          </a:ln>
        </p:spPr>
      </p:pic>
      <p:sp>
        <p:nvSpPr>
          <p:cNvPr id="68" name="Rounded Rectangular Callout 14"/>
          <p:cNvSpPr/>
          <p:nvPr/>
        </p:nvSpPr>
        <p:spPr>
          <a:xfrm>
            <a:off x="4500720" y="189000"/>
            <a:ext cx="2303280" cy="18716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c00000"/>
                </a:solidFill>
                <a:latin typeface="Arial"/>
              </a:rPr>
              <a:t>‘</a:t>
            </a:r>
            <a:r>
              <a:rPr b="0" i="1" lang="en-GB" sz="1800" spc="-1" strike="noStrike">
                <a:solidFill>
                  <a:srgbClr val="c00000"/>
                </a:solidFill>
                <a:latin typeface="Arial"/>
              </a:rPr>
              <a:t>I wasn't as comfortable when not using digital technology to plan and sketch out my ideas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ular Callout 12"/>
          <p:cNvSpPr/>
          <p:nvPr/>
        </p:nvSpPr>
        <p:spPr>
          <a:xfrm>
            <a:off x="6659640" y="1484280"/>
            <a:ext cx="2124000" cy="2016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c00000"/>
                </a:solidFill>
                <a:latin typeface="Arial"/>
              </a:rPr>
              <a:t>‘</a:t>
            </a:r>
            <a:r>
              <a:rPr b="0" i="1" lang="en-GB" sz="1800" spc="-1" strike="noStrike">
                <a:solidFill>
                  <a:srgbClr val="c00000"/>
                </a:solidFill>
                <a:latin typeface="Arial"/>
              </a:rPr>
              <a:t>Upon reflection my work could have been presented more effectively on the wikipag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ular Callout 15"/>
          <p:cNvSpPr/>
          <p:nvPr/>
        </p:nvSpPr>
        <p:spPr>
          <a:xfrm>
            <a:off x="250920" y="189000"/>
            <a:ext cx="2520720" cy="17272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c00000"/>
                </a:solidFill>
                <a:latin typeface="Arial"/>
              </a:rPr>
              <a:t>‘</a:t>
            </a:r>
            <a:r>
              <a:rPr b="0" i="1" lang="en-GB" sz="1800" spc="-1" strike="noStrike">
                <a:solidFill>
                  <a:srgbClr val="c00000"/>
                </a:solidFill>
                <a:latin typeface="Arial"/>
              </a:rPr>
              <a:t>I relied too heavily on the use of Wikipedia in my research which was unsatisfactory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ular Callout 13"/>
          <p:cNvSpPr/>
          <p:nvPr/>
        </p:nvSpPr>
        <p:spPr>
          <a:xfrm>
            <a:off x="2268360" y="1700280"/>
            <a:ext cx="2159280" cy="1800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c00000"/>
                </a:solidFill>
                <a:latin typeface="Arial"/>
              </a:rPr>
              <a:t>‘</a:t>
            </a:r>
            <a:r>
              <a:rPr b="0" i="1" lang="en-GB" sz="1800" spc="-1" strike="noStrike">
                <a:solidFill>
                  <a:srgbClr val="c00000"/>
                </a:solidFill>
                <a:latin typeface="Arial"/>
              </a:rPr>
              <a:t>I am reasonably proficient at using Photoshop effects on my magazine front cover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ut what have I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d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3348000" y="1628640"/>
            <a:ext cx="352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 haven’t compared his A2 work to his AS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Mark's_Magazine_(Final_Draft).jpg"/>
          <p:cNvPicPr/>
          <p:nvPr/>
        </p:nvPicPr>
        <p:blipFill>
          <a:blip r:embed="rId1"/>
          <a:stretch/>
        </p:blipFill>
        <p:spPr>
          <a:xfrm>
            <a:off x="539640" y="1916280"/>
            <a:ext cx="2849760" cy="4006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mag_2.jpg"/>
          <p:cNvPicPr/>
          <p:nvPr/>
        </p:nvPicPr>
        <p:blipFill>
          <a:blip r:embed="rId2"/>
          <a:stretch/>
        </p:blipFill>
        <p:spPr>
          <a:xfrm>
            <a:off x="6300720" y="2997360"/>
            <a:ext cx="252252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Evaluating your use of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igital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ired Task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are going to work in pairs to evaluate your AS and A2 coursework thus f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up your PowerPoints with your AS and A2 work on and spend a few minutes making notes in your bookle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are then going to present your evaluations to th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ttempt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Arial"/>
              </a:rPr>
              <a:t>Compare your AS and A2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Use your </a:t>
            </a:r>
            <a:r>
              <a:rPr b="1" lang="en-GB" sz="2400" spc="-1" strike="noStrike">
                <a:solidFill>
                  <a:srgbClr val="c00000"/>
                </a:solidFill>
                <a:latin typeface="Arial"/>
              </a:rPr>
              <a:t>booklets to prompt you</a:t>
            </a: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. Do not type anything onto the Power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Refer to the </a:t>
            </a:r>
            <a:r>
              <a:rPr b="1" lang="en-GB" sz="2400" spc="-1" strike="noStrike">
                <a:solidFill>
                  <a:srgbClr val="c00000"/>
                </a:solidFill>
                <a:latin typeface="Arial"/>
              </a:rPr>
              <a:t>4 areas of coursework </a:t>
            </a: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co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Use </a:t>
            </a:r>
            <a:r>
              <a:rPr b="1" lang="en-GB" sz="2400" spc="-1" strike="noStrike">
                <a:solidFill>
                  <a:srgbClr val="c00000"/>
                </a:solidFill>
                <a:latin typeface="Arial"/>
              </a:rPr>
              <a:t>evaluative terms </a:t>
            </a: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and phrases sh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8764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o Fin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468360" y="1413000"/>
            <a:ext cx="842472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 the following 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00000"/>
                </a:solidFill>
                <a:latin typeface="Arial"/>
              </a:rPr>
              <a:t>‘</a:t>
            </a:r>
            <a:r>
              <a:rPr b="1" i="1" lang="en-GB" sz="2800" spc="-1" strike="noStrike">
                <a:solidFill>
                  <a:srgbClr val="c00000"/>
                </a:solidFill>
                <a:latin typeface="Arial"/>
              </a:rPr>
              <a:t>How has your use of digital technology in the coursework productions progressed from AS through to A2 Media Studies thus far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er Ass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the mark scheme to give your partner’s answer a mark out of 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light digital technology and evaluative com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ive it a WWW and an EBI and sign i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10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15494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Arial"/>
              </a:rPr>
              <a:t>Homework(s)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wer the same set question in 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30 minutes to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mark scheme to assess exemplar essay on digital t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member AS music industry…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the music industry topic many key terms and theories were discussed with regards to digital technology…lets have a quick t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on- digital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’s easy to assume that in 2011 all research, construction and post-production work is produced solely with digital techn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 what non-digital technology did you use during AS and A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ysical copies of magaz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lm and film trailers on TV/cinema/DV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ncil sketching and storyboar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y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7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fessionalism on a budg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141200"/>
            <a:ext cx="8435880" cy="57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es your use of digital technology compare to production of real media tex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16-19 year olds you are not expected to be able to replicate what professional media institutions can do…or ha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x’s idea of the means of production being used by the dominant classes to keep the masses oppressed is increasingly becoming a redundant theory.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ause cheap, efficient technology is accessible to most of 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 we are able to produc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me wor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at could pass for professional, particularly print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 do we think this is the same case for the A2 trail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4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4" dur="2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igital tech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meant by “Convergenc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meant by ‘digital zeitgeist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a technophile and a technopho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meant by prolifer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es compression technology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es ‘means of production’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web 2.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es ‘user generated content’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haves and have not'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aspect of digital technology you might need to discuss and evaluate –without moaning – is the quality of technology you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sions of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lity of cameras (pixel ratios, SLR or compact, HD et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b 2.0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notes on question 5 and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has your use of digital hardware technology developed between AS and A2 Med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arter: What digital techno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Arial"/>
              </a:rPr>
              <a:t>Watch an example of an A2 film trailer from last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ist the technology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t the students would have used to construct it on the large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Lesson objective: </a:t>
            </a:r>
            <a:r>
              <a:rPr b="0" i="1" lang="en-GB" sz="3600" spc="-1" strike="noStrike">
                <a:solidFill>
                  <a:srgbClr val="ff0000"/>
                </a:solidFill>
                <a:latin typeface="Arial"/>
              </a:rPr>
              <a:t>to evaluate how our use of </a:t>
            </a:r>
            <a:r>
              <a:rPr b="1" i="1" lang="en-GB" sz="3600" spc="-1" strike="noStrike">
                <a:solidFill>
                  <a:srgbClr val="ff0000"/>
                </a:solidFill>
                <a:latin typeface="Arial"/>
              </a:rPr>
              <a:t>digital technology </a:t>
            </a:r>
            <a:r>
              <a:rPr b="0" i="1" lang="en-GB" sz="3600" spc="-1" strike="noStrike">
                <a:solidFill>
                  <a:srgbClr val="ff0000"/>
                </a:solidFill>
                <a:latin typeface="Arial"/>
              </a:rPr>
              <a:t>in the production of coursework has developed from AS to A2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Your digital tech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93320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ow technically skilled are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te yourself out of 10 and explain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we say about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reativity and technical proficienc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r skills developed and can you write about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c00000"/>
                </a:solidFill>
                <a:latin typeface="Arial"/>
              </a:rPr>
              <a:t>What do the exam board s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8920" y="1484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vel 4 (21-25 mark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re is a clear sense of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gression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and of how examples have been selected, and a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nge of articulate reflections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on technical skills. There is a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luent evaluation of progress made over tim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ndidates offer a broad range of specific, relevant an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lear examples of dig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chnolog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in relation to creative decisions and outcom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use of media terminology and research, planning and production terms is excell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2060"/>
                </a:solidFill>
                <a:latin typeface="Arial"/>
              </a:rPr>
              <a:t>Forms of digital technology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3 mains forms of digital technolog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ardware: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ill photography and DV cam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bile ph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u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oftware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otosh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miere and After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Web 2.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arch eng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r generated and social media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 and fan s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ail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ow has digital technology benefited media makers 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as transformed the way we produce media across the 4 stages of pro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Resear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lan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reated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Viewed/Exhib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often make the mistake of focusing only on ho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gital technology can be used in the creation of a product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ns of production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x’s idea of the means of production being used by the dominant classes to keep the masses oppressed is increasingly becoming a redundant theory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ause cheap, efficient technology is accessible to most of 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fore we are able to produc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me wor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hat could pass for professional, particularly prin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 do we think this is the same case for the A2 trail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2:50:24Z</dcterms:created>
  <dc:creator>#</dc:creator>
  <dc:description/>
  <dc:language>en-US</dc:language>
  <cp:lastModifiedBy>Permaul, Pravin</cp:lastModifiedBy>
  <cp:lastPrinted>2012-01-23T13:08:23Z</cp:lastPrinted>
  <dcterms:modified xsi:type="dcterms:W3CDTF">2013-02-08T10:27:41Z</dcterms:modified>
  <cp:revision>36</cp:revision>
  <dc:subject/>
  <dc:title>Evaluation of Digital Technology</dc:title>
</cp:coreProperties>
</file>